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1B46-109C-4242-9484-5F97FBA150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AD8BD-42FB-4734-B7D2-FED0AB84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48087-4FC0-4333-89EC-4A24A3A2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9A3D-B8F4-4E07-B9A7-5D35B1A6B8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67BC3-23B9-4295-A66F-E0CBF9AE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1738-C3CE-4FAA-B2F3-EA679B4D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750A-C64A-48F1-9489-CDC63B90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C351-638C-414F-B371-CA27F5E6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207C-FCBF-4F39-9169-EDC59FAB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741E-3DE6-480E-A43A-1070525D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199D-DB0A-4DDC-A707-2526F0B0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10D48-9D42-4878-A138-5258CA5D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SE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2010-09-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SE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F639298-5FB0-4E3E-B52F-68C8EC5079D5}" type="slidenum">
              <a:rPr b="0" lang="sv-SE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40000" y="907920"/>
            <a:ext cx="4464000" cy="5445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38320" y="6348240"/>
            <a:ext cx="5040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Rembrandt,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Självporträtt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 (16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60280"/>
            <a:ext cx="7201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Del I - Rembrandt Harmensz van Rij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969080" cy="6086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361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Rembrandt,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Kökspigan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 (1651) – sidan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604040" cy="607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92360" y="638172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Rembrandt,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Hendrickje badar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 (1654) – sidan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77160" cy="6075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04960" y="6373800"/>
            <a:ext cx="5759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Rembrandt , 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Den polske ryttaren 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(1655) – sidan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96120" cy="612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38172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Rembrandt, </a:t>
            </a: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Nattvakten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 (1642) – sidorna 63 och 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9120" y="272880"/>
            <a:ext cx="8151840" cy="6048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3216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sv-SE" sz="1800" spc="-1" strike="noStrike">
                <a:solidFill>
                  <a:srgbClr val="000000"/>
                </a:solidFill>
                <a:latin typeface="Calibri"/>
              </a:rPr>
              <a:t>Caravaggio, The Denial of Saint Peter</a:t>
            </a: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  (1610) – sidan 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20720" y="179280"/>
            <a:ext cx="7907400" cy="57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8560" y="611352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0520" y="6016680"/>
            <a:ext cx="81356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Amsterdams kanaler – sidan 52 </a:t>
            </a:r>
            <a:br>
              <a:rPr sz="1800"/>
            </a:b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Foto: Bachrach44 på commons.wikimedia 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